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5C03-7AB3-472D-BF00-94509F8D1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ADBC-5F59-42A7-BEAD-20D4A128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4A7E-E021-47A1-8A77-5AA0EDA4E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F444-806E-4EE1-9840-C6F6E6A2A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7944-DE09-432A-8889-FF38A969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B062-FA94-471E-AB6E-631D2AA2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F0DF-378C-4B3C-8657-E01EEF6D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DF9D-B8F7-4A9B-8DA5-6956CD72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69BF-6F6B-4B51-B73E-D79E6E20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2C84-A649-465C-AD3A-029A3DEA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4C90-85E8-46F5-B604-AA688CAB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2E99-8A29-4B37-BCE5-4430032D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A1E7-0435-4336-BE00-78826138062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굴림"/>
              </a:rPr>
              <a:t>NK Plans Long-Range Missile Launch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굴림"/>
              </a:rPr>
              <a:t>Yoona Ch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굴림"/>
              </a:rPr>
              <a:t>Who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굴림"/>
              </a:rPr>
              <a:t>Korean peninsul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굴림"/>
              </a:rPr>
              <a:t>U.S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굴림"/>
              </a:rPr>
              <a:t>The worl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32000" y="0"/>
            <a:ext cx="2314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굴림"/>
              </a:rPr>
              <a:t>Wh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713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24"/>
              </a:spcBef>
              <a:buClr>
                <a:srgbClr val="ffff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굴림"/>
              </a:rPr>
              <a:t>NK has moved Taepodong-2 and other equipment to its northeastern coast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524"/>
              </a:spcBef>
              <a:buClr>
                <a:srgbClr val="ffff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굴림"/>
              </a:rPr>
              <a:t>Threatens to launch Taepodong-2 as early as in a couple short weeks to a few months (could potentially reach the continental U.S.)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524"/>
              </a:spcBef>
              <a:buClr>
                <a:srgbClr val="ffff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굴림"/>
              </a:rPr>
              <a:t>NK disguises missile launch as satellite launch (“space development”)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524"/>
              </a:spcBef>
              <a:buClr>
                <a:srgbClr val="ffff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굴림"/>
              </a:rPr>
              <a:t>South Korea &amp; the U.S. (including Secretary of State, Hilary Clinton) has warned NK to stop 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524"/>
              </a:spcBef>
              <a:buClr>
                <a:srgbClr val="ffff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굴림"/>
              </a:rPr>
              <a:t>NK has shown no direct reaction to warnings from South Korea &amp; the U.S.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굴림"/>
              </a:rPr>
              <a:t>Wher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굴림"/>
              </a:rPr>
              <a:t>Korean peninsula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굴림"/>
              </a:rPr>
              <a:t>Mostly NK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굴림"/>
              </a:rPr>
              <a:t>Whe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굴림"/>
              </a:rPr>
              <a:t>No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굴림"/>
              </a:rPr>
              <a:t>Possibly in a few weeks-month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굴림"/>
              </a:rPr>
              <a:t>Why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굴림"/>
              </a:rPr>
              <a:t>North Korea is doing this: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굴림"/>
              </a:rPr>
              <a:t>NK believes the U.S. will invade NK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굴림"/>
              </a:rPr>
              <a:t>NK claims that all weapons are for self defens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굴림"/>
              </a:rPr>
              <a:t>South Korea &amp; the U.S. are warning NK: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굴림"/>
              </a:rPr>
              <a:t>Could threat international peac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굴림"/>
              </a:rPr>
              <a:t>Violate the U.N. Security Council Resolution 169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굴림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굴림"/>
              </a:rPr>
              <a:t>NK is disregarding the consequences of its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굴림"/>
              </a:rPr>
              <a:t>Other nations should continue to urge NK to stop its missile launch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굴림"/>
              </a:rPr>
              <a:t>Worried of a successful missile launch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굴림"/>
              </a:rPr>
              <a:t>How it relates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굴림"/>
              </a:rPr>
              <a:t>History repeats itself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굴림"/>
              </a:rPr>
              <a:t>1998: NK conducted a missile test, however, has claimed that it was a satellite launch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굴림"/>
              </a:rPr>
              <a:t>The same situation now, 2009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굴림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굴림"/>
              </a:rPr>
              <a:t>http://www.foxnews.com/story/0,2933,495264,00.htm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20:26:51Z</dcterms:created>
  <dc:creator>a</dc:creator>
  <dc:description/>
  <dc:language>en-US</dc:language>
  <cp:lastModifiedBy>a</cp:lastModifiedBy>
  <dcterms:modified xsi:type="dcterms:W3CDTF">2009-02-18T21:40:53Z</dcterms:modified>
  <cp:revision>5</cp:revision>
  <dc:subject/>
  <dc:title>슬라이드 1</dc:title>
</cp:coreProperties>
</file>